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1636198"/>
        <c:axId val="30820689"/>
      </c:barChart>
      <c:catAx>
        <c:axId val="3163619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820689"/>
        <c:crosses val="autoZero"/>
        <c:auto val="1"/>
        <c:lblAlgn val="ctr"/>
        <c:lblOffset val="100"/>
        <c:noMultiLvlLbl val="0"/>
      </c:catAx>
      <c:valAx>
        <c:axId val="3082068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63619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E3B4-6101-4D21-9171-D36336845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0F38-FBE4-4140-9902-6528ACB4B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F58F-BA75-4B73-B5DC-46343234B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C005-300C-40D9-88FC-0DDCBB36F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F4C8-58B2-42EC-BF7E-28C762A03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8062-1585-42BC-915C-D90B28874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8AA5-5F1E-4EBA-A1B2-4851453BF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670F-B6F3-4E73-80E4-ACEBE12A5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1ABA-BA18-4B0D-8DA4-DC8A92E9C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5BEB-EF48-451E-8E8E-DBE7AAD97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53B6-4ACF-417E-BF48-53177D475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DE7F-C7E2-4D97-BFF8-17B553DB9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F83DCB-E60A-44AF-AFBA-6D441A2F063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