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48393"/>
        <c:axId val="91489216"/>
      </c:barChart>
      <c:catAx>
        <c:axId val="63848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9216"/>
        <c:crosses val="autoZero"/>
        <c:auto val="1"/>
        <c:lblAlgn val="ctr"/>
        <c:lblOffset val="100"/>
        <c:noMultiLvlLbl val="0"/>
      </c:catAx>
      <c:valAx>
        <c:axId val="91489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8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525-FB9D-4007-A282-E83ABAFB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986-B750-438F-A45F-738824A6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235-BC7F-4F70-A84C-93A87ECF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106-CFA1-4A99-BC38-F4C9B353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C19-CE91-4CEA-9D53-C1B765A6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D21-24A8-4C89-91B5-5A8F40E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554-0817-4C33-A1C5-AF3DCBB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844-90B1-4B14-AB48-04D78CBD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0AB-00EE-4AEC-A305-4539239C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FCC-177C-4F33-85B3-4D33CF7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D9D-CFFB-4062-9715-C4A07088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D33-BCF4-4996-874A-D7A3155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E1CB0-1248-4801-B23A-0C4FFB351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